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22FB-C361-4F09-BAD2-89673EF4F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3080" y="2315880"/>
            <a:ext cx="616896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3080" y="5730480"/>
            <a:ext cx="616896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B6E5-742F-4453-8959-66CB79FC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3080" y="2315880"/>
            <a:ext cx="301032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4240" y="2315880"/>
            <a:ext cx="301032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3080" y="5730480"/>
            <a:ext cx="301032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4240" y="5730480"/>
            <a:ext cx="301032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57C7-E547-403E-85CE-6EF56EAA2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3080" y="2315880"/>
            <a:ext cx="198612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8920" y="2315880"/>
            <a:ext cx="198612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4760" y="2315880"/>
            <a:ext cx="198612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3080" y="5730480"/>
            <a:ext cx="198612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8920" y="5730480"/>
            <a:ext cx="198612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4760" y="5730480"/>
            <a:ext cx="198612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6327-17F1-4EBF-946C-53672A49C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3080" y="2315880"/>
            <a:ext cx="616896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21F4-7392-4B09-8CE8-CF5EEABEC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3080" y="2315880"/>
            <a:ext cx="616896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3D9A-1308-4BCC-A860-D351E3B3A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3080" y="2315880"/>
            <a:ext cx="301032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4240" y="2315880"/>
            <a:ext cx="301032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E195-2165-4C49-8C43-FB7B47E86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DD4C-2C78-48F8-AE28-CC7C715AC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3080" y="395280"/>
            <a:ext cx="6168960" cy="765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9FAE-B275-49E1-882B-C3787CFD1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3080" y="2315880"/>
            <a:ext cx="301032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4240" y="2315880"/>
            <a:ext cx="301032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3080" y="5730480"/>
            <a:ext cx="301032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3A02-5034-46DF-A3BF-D02301BC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3080" y="2315880"/>
            <a:ext cx="301032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4240" y="2315880"/>
            <a:ext cx="301032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4240" y="5730480"/>
            <a:ext cx="301032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8979-4EDC-4BAC-B1F7-2221A92BF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3080" y="2315880"/>
            <a:ext cx="301032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4240" y="2315880"/>
            <a:ext cx="301032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3080" y="5730480"/>
            <a:ext cx="6168960" cy="311796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B9E4-30BB-459F-9557-227C1B527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3080" y="395280"/>
            <a:ext cx="6168960" cy="16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3080" y="2315880"/>
            <a:ext cx="616896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27000" bIns="0" anchor="t">
            <a:normAutofit/>
          </a:bodyPr>
          <a:p>
            <a:pPr marL="325440" indent="0">
              <a:lnSpc>
                <a:spcPct val="93000"/>
              </a:lnSpc>
              <a:spcAft>
                <a:spcPts val="1349"/>
              </a:spcAft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25440" indent="-325440">
              <a:lnSpc>
                <a:spcPct val="93000"/>
              </a:lnSpc>
              <a:spcAft>
                <a:spcPts val="134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4840"/>
            <a:ext cx="1595160" cy="6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6480" y="9024840"/>
            <a:ext cx="2172960" cy="6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751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  <a:tab algn="l" pos="106758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6520" y="9024840"/>
            <a:ext cx="1596960" cy="6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687240"/>
                <a:tab algn="l" pos="1376280"/>
                <a:tab algn="l" pos="206388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  <a:tab algn="l" pos="8967960"/>
                <a:tab algn="l" pos="9394920"/>
                <a:tab algn="l" pos="9821880"/>
                <a:tab algn="l" pos="10248840"/>
              </a:tabLst>
            </a:pPr>
            <a:fld id="{528A2352-8D1F-47BE-97B7-A7E28E226411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60280" y="273600"/>
            <a:ext cx="6193080" cy="4530240"/>
            <a:chOff x="260280" y="273600"/>
            <a:chExt cx="6193080" cy="4530240"/>
          </a:xfrm>
        </p:grpSpPr>
        <p:cxnSp>
          <p:nvCxnSpPr>
            <p:cNvPr id="42" name="_s3145"/>
            <p:cNvCxnSpPr>
              <a:stCxn id="43" idx="1"/>
              <a:endCxn id="44" idx="3"/>
            </p:cNvCxnSpPr>
            <p:nvPr/>
          </p:nvCxnSpPr>
          <p:spPr>
            <a:xfrm rot="10800000">
              <a:off x="2599920" y="3201480"/>
              <a:ext cx="1981800" cy="1461240"/>
            </a:xfrm>
            <a:prstGeom prst="bentConnector3">
              <a:avLst>
                <a:gd name="adj1" fmla="val 49018"/>
              </a:avLst>
            </a:prstGeom>
            <a:ln w="28440">
              <a:solidFill>
                <a:srgbClr val="00513d"/>
              </a:solidFill>
              <a:miter/>
            </a:ln>
          </p:spPr>
        </p:cxnSp>
        <p:cxnSp>
          <p:nvCxnSpPr>
            <p:cNvPr id="45" name="_s3143"/>
            <p:cNvCxnSpPr>
              <a:stCxn id="46" idx="1"/>
              <a:endCxn id="44" idx="3"/>
            </p:cNvCxnSpPr>
            <p:nvPr/>
          </p:nvCxnSpPr>
          <p:spPr>
            <a:xfrm rot="10800000">
              <a:off x="2599920" y="3201480"/>
              <a:ext cx="1981800" cy="888120"/>
            </a:xfrm>
            <a:prstGeom prst="bentConnector3">
              <a:avLst>
                <a:gd name="adj1" fmla="val 49018"/>
              </a:avLst>
            </a:prstGeom>
            <a:ln w="28440">
              <a:solidFill>
                <a:srgbClr val="00513d"/>
              </a:solidFill>
              <a:miter/>
            </a:ln>
          </p:spPr>
        </p:cxnSp>
        <p:cxnSp>
          <p:nvCxnSpPr>
            <p:cNvPr id="47" name="_s3141"/>
            <p:cNvCxnSpPr>
              <a:stCxn id="48" idx="1"/>
              <a:endCxn id="44" idx="3"/>
            </p:cNvCxnSpPr>
            <p:nvPr/>
          </p:nvCxnSpPr>
          <p:spPr>
            <a:xfrm rot="10800000">
              <a:off x="2599920" y="3201120"/>
              <a:ext cx="1981800" cy="309600"/>
            </a:xfrm>
            <a:prstGeom prst="bentConnector3">
              <a:avLst>
                <a:gd name="adj1" fmla="val 49018"/>
              </a:avLst>
            </a:prstGeom>
            <a:ln w="28440">
              <a:solidFill>
                <a:srgbClr val="00513d"/>
              </a:solidFill>
              <a:miter/>
            </a:ln>
          </p:spPr>
        </p:cxnSp>
        <p:cxnSp>
          <p:nvCxnSpPr>
            <p:cNvPr id="49" name="_s3139"/>
            <p:cNvCxnSpPr>
              <a:stCxn id="50" idx="1"/>
              <a:endCxn id="44" idx="3"/>
            </p:cNvCxnSpPr>
            <p:nvPr/>
          </p:nvCxnSpPr>
          <p:spPr>
            <a:xfrm flipV="1" rot="10800000">
              <a:off x="2599920" y="2935800"/>
              <a:ext cx="1981800" cy="265680"/>
            </a:xfrm>
            <a:prstGeom prst="bentConnector3">
              <a:avLst>
                <a:gd name="adj1" fmla="val 49018"/>
              </a:avLst>
            </a:prstGeom>
            <a:ln w="28440">
              <a:solidFill>
                <a:srgbClr val="00513d"/>
              </a:solidFill>
              <a:miter/>
            </a:ln>
          </p:spPr>
        </p:cxnSp>
        <p:cxnSp>
          <p:nvCxnSpPr>
            <p:cNvPr id="51" name="_s3137"/>
            <p:cNvCxnSpPr>
              <a:stCxn id="52" idx="1"/>
              <a:endCxn id="44" idx="3"/>
            </p:cNvCxnSpPr>
            <p:nvPr/>
          </p:nvCxnSpPr>
          <p:spPr>
            <a:xfrm flipV="1" rot="10800000">
              <a:off x="2599920" y="2358360"/>
              <a:ext cx="1981800" cy="843480"/>
            </a:xfrm>
            <a:prstGeom prst="bentConnector3">
              <a:avLst>
                <a:gd name="adj1" fmla="val 49018"/>
              </a:avLst>
            </a:prstGeom>
            <a:ln w="28440">
              <a:solidFill>
                <a:srgbClr val="00513d"/>
              </a:solidFill>
              <a:miter/>
            </a:ln>
          </p:spPr>
        </p:cxnSp>
        <p:cxnSp>
          <p:nvCxnSpPr>
            <p:cNvPr id="53" name="_s3135"/>
            <p:cNvCxnSpPr>
              <a:stCxn id="54" idx="1"/>
              <a:endCxn id="44" idx="3"/>
            </p:cNvCxnSpPr>
            <p:nvPr/>
          </p:nvCxnSpPr>
          <p:spPr>
            <a:xfrm flipV="1" rot="10800000">
              <a:off x="2599920" y="1640520"/>
              <a:ext cx="1981800" cy="1561320"/>
            </a:xfrm>
            <a:prstGeom prst="bentConnector3">
              <a:avLst>
                <a:gd name="adj1" fmla="val 49018"/>
              </a:avLst>
            </a:prstGeom>
            <a:ln w="28440">
              <a:solidFill>
                <a:srgbClr val="00513d"/>
              </a:solidFill>
              <a:miter/>
            </a:ln>
          </p:spPr>
        </p:cxnSp>
        <p:cxnSp>
          <p:nvCxnSpPr>
            <p:cNvPr id="55" name="_s3133"/>
            <p:cNvCxnSpPr>
              <a:stCxn id="56" idx="1"/>
              <a:endCxn id="57" idx="3"/>
            </p:cNvCxnSpPr>
            <p:nvPr/>
          </p:nvCxnSpPr>
          <p:spPr>
            <a:xfrm rot="10800000">
              <a:off x="3318480" y="597240"/>
              <a:ext cx="1982160" cy="360"/>
            </a:xfrm>
            <a:prstGeom prst="bentConnector2">
              <a:avLst/>
            </a:prstGeom>
            <a:ln w="28440">
              <a:solidFill>
                <a:srgbClr val="00513d"/>
              </a:solidFill>
              <a:miter/>
            </a:ln>
          </p:spPr>
        </p:cxnSp>
        <p:cxnSp>
          <p:nvCxnSpPr>
            <p:cNvPr id="58" name="_s3125"/>
            <p:cNvCxnSpPr>
              <a:stCxn id="59" idx="2"/>
              <a:endCxn id="44" idx="0"/>
            </p:cNvCxnSpPr>
            <p:nvPr/>
          </p:nvCxnSpPr>
          <p:spPr>
            <a:xfrm rot="16200000">
              <a:off x="1250640" y="2396880"/>
              <a:ext cx="1080720" cy="360"/>
            </a:xfrm>
            <a:prstGeom prst="bentConnector2">
              <a:avLst/>
            </a:prstGeom>
            <a:ln w="28440">
              <a:solidFill>
                <a:srgbClr val="00513d"/>
              </a:solidFill>
              <a:miter/>
            </a:ln>
          </p:spPr>
        </p:cxnSp>
        <p:cxnSp>
          <p:nvCxnSpPr>
            <p:cNvPr id="60" name="_s3109"/>
            <p:cNvCxnSpPr>
              <a:stCxn id="59" idx="0"/>
              <a:endCxn id="57" idx="2"/>
            </p:cNvCxnSpPr>
            <p:nvPr/>
          </p:nvCxnSpPr>
          <p:spPr>
            <a:xfrm flipV="1" rot="16200000">
              <a:off x="1501920" y="1208160"/>
              <a:ext cx="576360" cy="1440"/>
            </a:xfrm>
            <a:prstGeom prst="bentConnector3">
              <a:avLst>
                <a:gd name="adj1" fmla="val 46250"/>
              </a:avLst>
            </a:prstGeom>
            <a:ln w="28440">
              <a:solidFill>
                <a:srgbClr val="00513d"/>
              </a:solidFill>
              <a:miter/>
            </a:ln>
          </p:spPr>
        </p:cxnSp>
        <p:sp>
          <p:nvSpPr>
            <p:cNvPr id="57" name="_s3105"/>
            <p:cNvSpPr/>
            <p:nvPr/>
          </p:nvSpPr>
          <p:spPr>
            <a:xfrm>
              <a:off x="260280" y="273600"/>
              <a:ext cx="3058560" cy="647280"/>
            </a:xfrm>
            <a:prstGeom prst="roundRect">
              <a:avLst>
                <a:gd name="adj" fmla="val 16667"/>
              </a:avLst>
            </a:prstGeom>
            <a:solidFill>
              <a:srgbClr val="66e1c2"/>
            </a:solidFill>
            <a:ln w="38160">
              <a:solidFill>
                <a:srgbClr val="00513d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CONSEJERÍA DE MEDIO AMBIEN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3106"/>
            <p:cNvSpPr/>
            <p:nvPr/>
          </p:nvSpPr>
          <p:spPr>
            <a:xfrm>
              <a:off x="621000" y="1496880"/>
              <a:ext cx="2339640" cy="360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28440">
              <a:solidFill>
                <a:srgbClr val="00513d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VICECONSEJERÍ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_s3124"/>
            <p:cNvSpPr/>
            <p:nvPr/>
          </p:nvSpPr>
          <p:spPr>
            <a:xfrm>
              <a:off x="981360" y="2937240"/>
              <a:ext cx="1618560" cy="528480"/>
            </a:xfrm>
            <a:prstGeom prst="roundRect">
              <a:avLst>
                <a:gd name="adj" fmla="val 16667"/>
              </a:avLst>
            </a:prstGeom>
            <a:solidFill>
              <a:srgbClr val="00bc8d"/>
            </a:solidFill>
            <a:ln w="3240">
              <a:solidFill>
                <a:srgbClr val="00513d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SECRETARIA 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DIRECCIONES GENERALE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3132"/>
            <p:cNvSpPr/>
            <p:nvPr/>
          </p:nvSpPr>
          <p:spPr>
            <a:xfrm>
              <a:off x="5300640" y="273600"/>
              <a:ext cx="1081080" cy="647280"/>
            </a:xfrm>
            <a:prstGeom prst="roundRect">
              <a:avLst>
                <a:gd name="adj" fmla="val 16667"/>
              </a:avLst>
            </a:prstGeom>
            <a:solidFill>
              <a:srgbClr val="33d7ae"/>
            </a:solidFill>
            <a:ln w="3240">
              <a:solidFill>
                <a:srgbClr val="00513d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GABINETE D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Arial"/>
                </a:rPr>
                <a:t>CONSEJER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3134"/>
            <p:cNvSpPr/>
            <p:nvPr/>
          </p:nvSpPr>
          <p:spPr>
            <a:xfrm>
              <a:off x="4581360" y="1496880"/>
              <a:ext cx="1872000" cy="287280"/>
            </a:xfrm>
            <a:prstGeom prst="roundRect">
              <a:avLst>
                <a:gd name="adj" fmla="val 16667"/>
              </a:avLst>
            </a:prstGeom>
            <a:solidFill>
              <a:srgbClr val="00ae82"/>
            </a:solidFill>
            <a:ln w="3240">
              <a:solidFill>
                <a:srgbClr val="00513d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Arial"/>
                </a:rPr>
                <a:t>SECRETARÍA GENERAL TÉCNICA</a:t>
              </a:r>
              <a:r>
                <a:rPr b="0" lang="es-ES" sz="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3136"/>
            <p:cNvSpPr/>
            <p:nvPr/>
          </p:nvSpPr>
          <p:spPr>
            <a:xfrm>
              <a:off x="4581360" y="2144520"/>
              <a:ext cx="1872000" cy="428040"/>
            </a:xfrm>
            <a:prstGeom prst="roundRect">
              <a:avLst>
                <a:gd name="adj" fmla="val 16667"/>
              </a:avLst>
            </a:prstGeom>
            <a:solidFill>
              <a:srgbClr val="00ae82"/>
            </a:solidFill>
            <a:ln w="3240">
              <a:solidFill>
                <a:srgbClr val="00513d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Arial"/>
                </a:rPr>
                <a:t>D.G. DE DESARROLLO SOSTENIBL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Arial"/>
                </a:rPr>
                <a:t>E INFORMACIÓN AMBIEN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_s3138"/>
            <p:cNvSpPr/>
            <p:nvPr/>
          </p:nvSpPr>
          <p:spPr>
            <a:xfrm>
              <a:off x="4581360" y="2792520"/>
              <a:ext cx="1872000" cy="287280"/>
            </a:xfrm>
            <a:prstGeom prst="roundRect">
              <a:avLst>
                <a:gd name="adj" fmla="val 16667"/>
              </a:avLst>
            </a:prstGeom>
            <a:solidFill>
              <a:srgbClr val="00ae82"/>
            </a:solidFill>
            <a:ln w="3240">
              <a:solidFill>
                <a:srgbClr val="00513d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Arial"/>
                </a:rPr>
                <a:t>D.G. DE GESTIÓN DE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Arial"/>
                </a:rPr>
                <a:t>MEDIO NATUR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_s3140"/>
            <p:cNvSpPr/>
            <p:nvPr/>
          </p:nvSpPr>
          <p:spPr>
            <a:xfrm>
              <a:off x="4581360" y="3368160"/>
              <a:ext cx="1872000" cy="285120"/>
            </a:xfrm>
            <a:prstGeom prst="roundRect">
              <a:avLst>
                <a:gd name="adj" fmla="val 16667"/>
              </a:avLst>
            </a:prstGeom>
            <a:solidFill>
              <a:srgbClr val="00ae82"/>
            </a:solidFill>
            <a:ln w="3240">
              <a:solidFill>
                <a:srgbClr val="00513d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Arial"/>
                </a:rPr>
                <a:t>D.G. DE ESPACIOS NATURALE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Arial"/>
                </a:rPr>
                <a:t>Y PARTICIPACIÓN CIUDADAN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_s3142"/>
            <p:cNvSpPr/>
            <p:nvPr/>
          </p:nvSpPr>
          <p:spPr>
            <a:xfrm>
              <a:off x="4581360" y="3945600"/>
              <a:ext cx="1872000" cy="287280"/>
            </a:xfrm>
            <a:prstGeom prst="roundRect">
              <a:avLst>
                <a:gd name="adj" fmla="val 16667"/>
              </a:avLst>
            </a:prstGeom>
            <a:solidFill>
              <a:srgbClr val="00ae82"/>
            </a:solidFill>
            <a:ln w="3240">
              <a:solidFill>
                <a:srgbClr val="00513d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Arial"/>
                </a:rPr>
                <a:t>D.G. DE PREVENCIÓ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Arial"/>
                </a:rPr>
                <a:t>Y CALIDAD AMBIEN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_s3144"/>
            <p:cNvSpPr/>
            <p:nvPr/>
          </p:nvSpPr>
          <p:spPr>
            <a:xfrm>
              <a:off x="4581360" y="4521240"/>
              <a:ext cx="1872000" cy="282600"/>
            </a:xfrm>
            <a:prstGeom prst="roundRect">
              <a:avLst>
                <a:gd name="adj" fmla="val 16667"/>
              </a:avLst>
            </a:prstGeom>
            <a:solidFill>
              <a:srgbClr val="00ae82"/>
            </a:solidFill>
            <a:ln w="3240">
              <a:solidFill>
                <a:srgbClr val="00513d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Arial"/>
                </a:rPr>
                <a:t>D.G. DE CAMBIO CLIMÁTIC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Arial"/>
                </a:rPr>
                <a:t>Y MEDIO AMBIENTE URBAN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260280" y="4952880"/>
            <a:ext cx="2880000" cy="1944360"/>
            <a:chOff x="260280" y="4952880"/>
            <a:chExt cx="2880000" cy="1944360"/>
          </a:xfrm>
        </p:grpSpPr>
        <p:cxnSp>
          <p:nvCxnSpPr>
            <p:cNvPr id="62" name="_s3178"/>
            <p:cNvCxnSpPr>
              <a:stCxn id="63" idx="1"/>
              <a:endCxn id="64" idx="2"/>
            </p:cNvCxnSpPr>
            <p:nvPr/>
          </p:nvCxnSpPr>
          <p:spPr>
            <a:xfrm rot="10800000">
              <a:off x="1159200" y="5438880"/>
              <a:ext cx="499680" cy="12157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5" name="_s3177"/>
            <p:cNvCxnSpPr>
              <a:stCxn id="66" idx="1"/>
              <a:endCxn id="64" idx="2"/>
            </p:cNvCxnSpPr>
            <p:nvPr/>
          </p:nvCxnSpPr>
          <p:spPr>
            <a:xfrm rot="10800000">
              <a:off x="1159200" y="5438880"/>
              <a:ext cx="499680" cy="486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4" name="_s3172"/>
            <p:cNvSpPr/>
            <p:nvPr/>
          </p:nvSpPr>
          <p:spPr>
            <a:xfrm>
              <a:off x="260280" y="4952880"/>
              <a:ext cx="1798920" cy="486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ENTIDADES 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ORGANISMOS AUTÓNOM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_s3174"/>
            <p:cNvSpPr/>
            <p:nvPr/>
          </p:nvSpPr>
          <p:spPr>
            <a:xfrm>
              <a:off x="1658880" y="5681880"/>
              <a:ext cx="1481400" cy="486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Arial"/>
                </a:rPr>
                <a:t>AGENCIA ANDALUZ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Arial"/>
                </a:rPr>
                <a:t>DEL AGUA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_s3175"/>
            <p:cNvSpPr/>
            <p:nvPr/>
          </p:nvSpPr>
          <p:spPr>
            <a:xfrm>
              <a:off x="1658880" y="6411240"/>
              <a:ext cx="1481400" cy="4860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Arial"/>
                </a:rPr>
                <a:t>EMPRESA PÚBLICA 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Arial"/>
                </a:rPr>
                <a:t>GESTIÓN MEDIOAMBIENTA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Arial"/>
                </a:rPr>
                <a:t>(EGMASA)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3933720" y="5673600"/>
            <a:ext cx="2592000" cy="504720"/>
            <a:chOff x="3933720" y="5673600"/>
            <a:chExt cx="2592000" cy="504720"/>
          </a:xfrm>
        </p:grpSpPr>
        <p:sp>
          <p:nvSpPr>
            <p:cNvPr id="68" name="_s3182"/>
            <p:cNvSpPr/>
            <p:nvPr/>
          </p:nvSpPr>
          <p:spPr>
            <a:xfrm>
              <a:off x="3933720" y="5673600"/>
              <a:ext cx="2592000" cy="50472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DELEGACIONES PROVINCIAL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260280" y="7977240"/>
            <a:ext cx="6480360" cy="1699200"/>
            <a:chOff x="260280" y="7977240"/>
            <a:chExt cx="6480360" cy="1699200"/>
          </a:xfrm>
        </p:grpSpPr>
        <p:sp>
          <p:nvSpPr>
            <p:cNvPr id="70" name=""/>
            <p:cNvSpPr/>
            <p:nvPr/>
          </p:nvSpPr>
          <p:spPr>
            <a:xfrm>
              <a:off x="260280" y="7977240"/>
              <a:ext cx="33847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751"/>
                </a:spcBef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1" lang="es-ES" sz="1200" spc="-1" strike="noStrike" u="sng">
                  <a:solidFill>
                    <a:srgbClr val="ffffff"/>
                  </a:solidFill>
                  <a:uFillTx/>
                  <a:latin typeface="Arial"/>
                </a:rPr>
                <a:t>Órganos colegiados de participación social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60280" y="8337600"/>
              <a:ext cx="2448000" cy="8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Nivel regional</a:t>
              </a: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Consejo Andaluz de Medio Ambi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Consejo Andaluz de Biodivers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Consejo Andaluz del Agu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08280" y="8337600"/>
              <a:ext cx="4032360" cy="133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Nivel provincial</a:t>
              </a: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Consejos provinciales de Medio Ambiente y Biodiversidad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Espacios Protegidos</a:t>
              </a: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Juntas Rectoras de Parques Naturale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Patronatos de Reserva y Parajes de reconocimiento internacio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spcBef>
                  <a:spcPts val="62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Consejos de Participació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260280" y="7257960"/>
            <a:ext cx="3384720" cy="524520"/>
            <a:chOff x="260280" y="7257960"/>
            <a:chExt cx="3384720" cy="524520"/>
          </a:xfrm>
        </p:grpSpPr>
        <p:sp>
          <p:nvSpPr>
            <p:cNvPr id="74" name=""/>
            <p:cNvSpPr/>
            <p:nvPr/>
          </p:nvSpPr>
          <p:spPr>
            <a:xfrm>
              <a:off x="260280" y="7257960"/>
              <a:ext cx="33847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751"/>
                </a:spcBef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1" lang="es-ES" sz="1200" spc="-1" strike="noStrike" u="sng">
                  <a:solidFill>
                    <a:srgbClr val="ffffff"/>
                  </a:solidFill>
                  <a:uFillTx/>
                  <a:latin typeface="Arial"/>
                </a:rPr>
                <a:t>Órganos colegiados de participación social</a:t>
              </a:r>
              <a:r>
                <a:rPr b="0" lang="es-ES" sz="12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60280" y="7547040"/>
              <a:ext cx="3024360" cy="23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624"/>
                </a:spcBef>
                <a:tabLst>
                  <a:tab algn="l" pos="0"/>
                  <a:tab algn="l" pos="426960"/>
                  <a:tab algn="l" pos="853920"/>
                  <a:tab algn="l" pos="1281240"/>
                  <a:tab algn="l" pos="1708200"/>
                  <a:tab algn="l" pos="2135160"/>
                  <a:tab algn="l" pos="2562120"/>
                  <a:tab algn="l" pos="2989440"/>
                  <a:tab algn="l" pos="3416400"/>
                  <a:tab algn="l" pos="3843360"/>
                  <a:tab algn="l" pos="4270320"/>
                  <a:tab algn="l" pos="4697280"/>
                  <a:tab algn="l" pos="5124600"/>
                  <a:tab algn="l" pos="5551560"/>
                  <a:tab algn="l" pos="5978520"/>
                  <a:tab algn="l" pos="6405480"/>
                  <a:tab algn="l" pos="6832440"/>
                  <a:tab algn="l" pos="7259760"/>
                  <a:tab algn="l" pos="7686720"/>
                  <a:tab algn="l" pos="8113680"/>
                  <a:tab algn="l" pos="854064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Comité de Acciones para el Desarrollo Sostenib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4581360" y="9686880"/>
            <a:ext cx="227664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99"/>
              </a:spcBef>
              <a:tabLst>
                <a:tab algn="l" pos="0"/>
                <a:tab algn="l" pos="426960"/>
                <a:tab algn="l" pos="853920"/>
                <a:tab algn="l" pos="1281240"/>
                <a:tab algn="l" pos="1708200"/>
                <a:tab algn="l" pos="2135160"/>
                <a:tab algn="l" pos="2562120"/>
                <a:tab algn="l" pos="2989440"/>
                <a:tab algn="l" pos="3416400"/>
                <a:tab algn="l" pos="3843360"/>
                <a:tab algn="l" pos="4270320"/>
                <a:tab algn="l" pos="4697280"/>
                <a:tab algn="l" pos="5124600"/>
                <a:tab algn="l" pos="5551560"/>
                <a:tab algn="l" pos="5978520"/>
                <a:tab algn="l" pos="6405480"/>
                <a:tab algn="l" pos="6832440"/>
                <a:tab algn="l" pos="7259760"/>
                <a:tab algn="l" pos="7686720"/>
                <a:tab algn="l" pos="8113680"/>
                <a:tab algn="l" pos="8540640"/>
              </a:tabLst>
            </a:pPr>
            <a:r>
              <a:rPr b="1" lang="es-ES" sz="800" spc="-1" strike="noStrike" u="sng">
                <a:solidFill>
                  <a:srgbClr val="ffffff"/>
                </a:solidFill>
                <a:uFillTx/>
                <a:latin typeface="Arial"/>
              </a:rPr>
              <a:t>Fuente</a:t>
            </a:r>
            <a:r>
              <a:rPr b="0" lang="es-ES" sz="800" spc="-1" strike="noStrike">
                <a:solidFill>
                  <a:srgbClr val="ffffff"/>
                </a:solidFill>
                <a:latin typeface="Arial"/>
              </a:rPr>
              <a:t>: Consejería de Medio Ambiente, 2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9T09:26:53Z</dcterms:created>
  <dc:creator>aa </dc:creator>
  <dc:description/>
  <dc:language>en-US</dc:language>
  <cp:lastModifiedBy>entrada</cp:lastModifiedBy>
  <dcterms:modified xsi:type="dcterms:W3CDTF">2010-11-23T17:08:31Z</dcterms:modified>
  <cp:revision>18</cp:revision>
  <dc:subject/>
  <dc:title>ORGANIGRAMA DE LA CONSEJERÍA DE MEDIO AMBIENTE</dc:title>
</cp:coreProperties>
</file>